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47E4-139A-4B53-8877-4058149DF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5DE4-0FDB-4A42-A939-6BA08F79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044A-5643-448B-A85E-4F1E9B16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0BAF-9324-4DA4-9B43-DAFA8EC7C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ABF-C052-4411-B380-248B4651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8082-4F7B-4E90-97E9-1E6CF191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EFE0-9ED0-482A-BFF4-CF2A537EE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D7A6-9048-4853-821E-4CB34459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B33-2FAB-4E95-8870-05A7B627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3F0-121E-4B8E-AEA6-01FBE02B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A92-7776-4300-8287-17F4D97D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91B-0B12-4086-926C-9F828E47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7BD1-A574-4088-8BD4-C531E1E1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E69B-52B0-46C3-9E61-9B29DBF2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A110-0849-4218-B8AB-A341CE04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7AD6-2495-4814-ADAD-CE7F00B6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75B7-DFFE-43CA-8567-D857EBFE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5C0E-29AE-413E-BFA2-BFC8041D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C427-58E3-4E75-BD19-4C14F5C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D64-525C-440D-BFFF-4EF7DB66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C9C0-BC69-444D-9632-0B85E4A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E732-C958-4E74-97B9-EAE254C9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253D-7308-46E4-A260-991C9295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F67C-DD4D-45E8-87E4-21611EEC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AFDF-755B-4E48-BAC2-B8254F72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29866-6EC7-4388-BBEC-B6534273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6A545-EB67-47BC-AC3A-CB61981D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51CF4-A00C-44A3-A3F8-0B51F3A2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65D3F-21BD-458C-8919-232409A5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6CDE4-73AD-45B1-816D-6FB7D69E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786-86F8-4449-870F-9DDAD3C7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D328A-C58E-4F82-93E4-8E97EE92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6E1CF-2E90-4EEF-99A2-3C69090F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34CB7-6F13-4E3B-BB69-49F10CDF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FAEB3-101D-4BB7-8A43-FE093F9A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A3ED3-7DDA-49AD-B58E-33D3CE4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BEBC7-0B91-4049-B168-EE783A1B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FA5BA-E3D5-4C44-9B52-192B5069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F0ABF-3191-4388-8162-EB008472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A90AB-54C2-4729-B0DB-A04E21C8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06AD8-9D46-4B41-B358-0C4377F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661-0BE6-459F-B5F3-7DD50649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73696-87D5-4F81-BB2D-CCA9C510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AD454-57A6-460D-8461-1FECAC0D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08138-DF25-4622-BE88-0FCC1010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D18D2-EAD9-4A87-A25A-2DFEF7C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E839C-A3AD-422D-81F9-F277F65A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7A903-E881-4DC8-9163-657FC8F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D0899-D119-4C79-8AE8-9FAF7918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9E5D5-F84D-4E79-A49D-38A952EF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94352-DEC4-41F2-98B8-BD5D55B5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63999-ED4B-43B5-8594-E41BC7BA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C5C-8B78-46DC-926C-061E1E8C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69708-0619-4DD9-BB5D-F98EE06E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13594-3CB0-40E3-A09B-CCECCFF8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6D977-2DCC-4972-BE6B-EA9B4495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4AE2B-70FC-43B6-BE93-A800CE5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A540B-EF0C-4772-AD6F-00E41CAC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E86CB-53DB-4342-AEC4-07396AF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B9F26-F347-45FB-AE13-D070E18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20E60-5F2E-4971-9EFB-D737C448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F8A78-B228-4389-8B84-25F5CF97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8F6AE-26D2-4C43-A3CD-DB103C8F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1B4-AEB5-451A-BAC2-8C0D093E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D1A47-7BB2-4E1D-BEF1-A918FD55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0FCF-0ACD-4DE9-A6F3-CE0575E5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246A-3AC2-4122-819B-7BCA1AC0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FDAC4-251A-44F1-B78B-21E283EA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365E8-979E-4ABF-A2EC-973777EE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E035-C29C-4946-BEC2-41D38558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99FF-FEC8-4561-BA72-1CA88BCC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AC44-A37E-4803-AC10-0B109475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C136B-9F61-4A7C-B48A-055BDAF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DDE3-4FA5-4BE6-8DF7-2C36374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DBD-F071-4936-9DC0-06F7123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5C098-07BF-4460-9DF7-8E8FEDDD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BFEC-36DE-4C6F-A58B-12DF15D0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DC16-F570-4E59-A8CF-565E69A9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25056-B63B-4B83-8339-43D6F1CA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55CE1-98DF-4906-995C-01A3190F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EA305-A504-438B-9C35-5BE02751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06B1E-0EB4-456B-A671-D322D525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307A4-6DB4-4A3E-99F3-DB96B3F9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58B2D-CA41-4128-AA2C-F1C72D0E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AF516-4CD8-4E0C-81FC-C7F4A291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E90-0C7A-4347-AC95-7F14DB3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0B4AF-27F9-4302-8BCD-9755FAE2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DF391-543C-4F15-9DE4-84C7B04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D9421-17E1-42F1-BA6D-1E1F1E5D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15372-1243-465F-8F48-40A7DF2B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3597D-E2E4-402E-A602-63B6FEDC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DB893-FD33-4C35-AB12-F66F0223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0C20F-7B9D-4A43-95E7-842D6B00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203B7-4E24-4E61-83B7-F151B00E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AE06D-5063-464F-B799-1D22E656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58D80-BDB5-4540-8FF7-A57CA9FB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75B-1FEA-4E86-BCBE-7D1F3B7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E365C-4545-48B3-8CB2-B91C8E0E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762BC-F86F-45B9-BD31-C3DE55B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29B24-67E6-4A56-AC1B-5137489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893FC-69EE-4519-B1AA-BB4BBCB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72D06-A297-44FE-9111-AE17966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6238-CD14-439A-BCDE-22472313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24747-28E7-4902-BCA4-22BFA5EE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10DC-3F04-419B-9B5D-8CCB508C75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A4D9-3D05-4EE9-B0C4-B4181E4D79A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B331-2D11-44B8-A0F0-F12601EBF2B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68E-E4EE-479B-8545-3CAA0E265B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2700-5478-45AA-ADC9-BD2CF94C3C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09FA-BBF5-41FD-B9E9-20411AA5385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B928-CF13-4A03-ABA9-EB116E8E651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14F9-7067-4256-B5A5-A1730E822B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dc3"/>
                </a:solidFill>
                <a:latin typeface="Times New Roman"/>
              </a:rPr>
              <a:t>Intro to Cell Division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w Cen MT"/>
              </a:rPr>
              <a:t>Objective 9: Analyze how cells grow and reproduce in terms of interphase, mitosis &amp; cytokinesi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743200" cy="22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Cell Divi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fore a cell gets too large, it divides into two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aughter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el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process is called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ell division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Before cell division happens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ell replicates (copies) its D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lows both daughter cells to have all of the DNA information in the parent cell.  This solves the information overload crisis.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ell division also solves the problem of the surface area-to-volume ratio by allowing your cells to stay small and numerous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bddc3"/>
                </a:solidFill>
                <a:latin typeface="Times New Roman"/>
              </a:rPr>
              <a:t>CHROMOSOMES</a:t>
            </a:r>
            <a:br>
              <a:rPr sz="4900"/>
            </a:b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389" name="Picture 3" descr="lateprophase"/>
          <p:cNvPicPr/>
          <p:nvPr/>
        </p:nvPicPr>
        <p:blipFill>
          <a:blip r:embed="rId1"/>
          <a:stretch/>
        </p:blipFill>
        <p:spPr>
          <a:xfrm>
            <a:off x="2590920" y="2286000"/>
            <a:ext cx="426708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imes New Roman"/>
              </a:rPr>
              <a:t>DNA can appear in 2 forms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1" name="Picture 4" descr="inter"/>
          <p:cNvPicPr/>
          <p:nvPr/>
        </p:nvPicPr>
        <p:blipFill>
          <a:blip r:embed="rId1"/>
          <a:srcRect l="4746" t="0" r="7251" b="0"/>
          <a:stretch/>
        </p:blipFill>
        <p:spPr>
          <a:xfrm>
            <a:off x="685800" y="2049480"/>
            <a:ext cx="265896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347640" y="1676160"/>
            <a:ext cx="5038920" cy="24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Spread out when cells are NOT dividing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5" descr="chromsmear"/>
          <p:cNvPicPr/>
          <p:nvPr/>
        </p:nvPicPr>
        <p:blipFill>
          <a:blip r:embed="rId2"/>
          <a:srcRect l="0" t="8801" r="0" b="0"/>
          <a:stretch/>
        </p:blipFill>
        <p:spPr>
          <a:xfrm>
            <a:off x="380880" y="4191120"/>
            <a:ext cx="2971800" cy="23716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6"/>
          <p:cNvSpPr/>
          <p:nvPr/>
        </p:nvSpPr>
        <p:spPr>
          <a:xfrm>
            <a:off x="3124080" y="4343400"/>
            <a:ext cx="601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runched up in bundles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when cells div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430080" y="167652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CHROMA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431160" y="438768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CHROM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34076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imes New Roman"/>
              </a:rPr>
              <a:t>Chromosome structure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8" name="Picture 4" descr="chromosome arms"/>
          <p:cNvPicPr/>
          <p:nvPr/>
        </p:nvPicPr>
        <p:blipFill>
          <a:blip r:embed="rId1"/>
          <a:stretch/>
        </p:blipFill>
        <p:spPr>
          <a:xfrm>
            <a:off x="228600" y="1371600"/>
            <a:ext cx="1727280" cy="3276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__________________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w Cen MT"/>
              </a:rPr>
              <a:t>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 2 identical arm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__________________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constricted area hol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chromatids together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5" descr="chromosome arms"/>
          <p:cNvPicPr/>
          <p:nvPr/>
        </p:nvPicPr>
        <p:blipFill>
          <a:blip r:embed="rId2"/>
          <a:stretch/>
        </p:blipFill>
        <p:spPr>
          <a:xfrm>
            <a:off x="1752480" y="1371600"/>
            <a:ext cx="1725840" cy="327672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6"/>
          <p:cNvSpPr/>
          <p:nvPr/>
        </p:nvSpPr>
        <p:spPr>
          <a:xfrm>
            <a:off x="457200" y="4952880"/>
            <a:ext cx="76201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 P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of each chromosom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(one from mom; one from d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887280" y="1219320"/>
            <a:ext cx="48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‘</a:t>
            </a: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sister’ CHROMAT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4115880" y="25146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CENTROM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917280" y="487692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4404"/>
                </a:solidFill>
                <a:latin typeface="Times New Roman"/>
              </a:rPr>
              <a:t>HOMOLOG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 flipH="1">
            <a:off x="2514600" y="1828800"/>
            <a:ext cx="1295280" cy="0"/>
          </a:xfrm>
          <a:prstGeom prst="line">
            <a:avLst/>
          </a:prstGeom>
          <a:ln w="936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1"/>
          <p:cNvSpPr/>
          <p:nvPr/>
        </p:nvSpPr>
        <p:spPr>
          <a:xfrm flipH="1">
            <a:off x="2971800" y="1981080"/>
            <a:ext cx="1295280" cy="0"/>
          </a:xfrm>
          <a:prstGeom prst="line">
            <a:avLst/>
          </a:prstGeom>
          <a:ln w="936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 flipH="1">
            <a:off x="2819520" y="2743200"/>
            <a:ext cx="1295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 flipH="1" flipV="1">
            <a:off x="1218960" y="4419720"/>
            <a:ext cx="152280" cy="45720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 flipV="1">
            <a:off x="2133720" y="4419720"/>
            <a:ext cx="457200" cy="45720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Chromosome pict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1371600"/>
            <a:ext cx="460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DNA replicates before cell division, chromosomes produce a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pied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, chromati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se 2 chromatid chromosomes appear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X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hap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uring Mitosis, sister chromatids separate and one goes to each of the two new cel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26744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Human Karyotyp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28600" y="1447920"/>
            <a:ext cx="399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sual of all 23 pairs of human chromosom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tice that they are single chromatids paired up as homologous chromosom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gender of this huma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2876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Did you know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A healthy adult human produces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____________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new cells every second!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819520" y="3276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4404"/>
                </a:solidFill>
                <a:latin typeface="Times New Roman"/>
              </a:rPr>
              <a:t>25 mill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Cell siz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ells come in a variety of sizes, though most cannot be seen without a microscop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d blood cells: 8μ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gg yolks: 2-8 c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rve cells: up to 1m lo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are 2-200μ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904760" cy="2095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4800600" y="5227560"/>
            <a:ext cx="205740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Why cells stay small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several reasons why cells divide rather than continuing to grow indefinitel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. Demand on D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. Surface area-to-volume rati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. Growth, repair, &amp; regener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4. Reprodu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4" descr="j0076201"/>
          <p:cNvPicPr/>
          <p:nvPr/>
        </p:nvPicPr>
        <p:blipFill>
          <a:blip r:embed="rId1"/>
          <a:stretch/>
        </p:blipFill>
        <p:spPr>
          <a:xfrm>
            <a:off x="8077320" y="304920"/>
            <a:ext cx="82224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starfish regenerating"/>
          <p:cNvPicPr/>
          <p:nvPr/>
        </p:nvPicPr>
        <p:blipFill>
          <a:blip r:embed="rId2"/>
          <a:stretch/>
        </p:blipFill>
        <p:spPr>
          <a:xfrm>
            <a:off x="2057400" y="5334120"/>
            <a:ext cx="1676520" cy="1323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DividingAmoeba"/>
          <p:cNvPicPr/>
          <p:nvPr/>
        </p:nvPicPr>
        <p:blipFill>
          <a:blip r:embed="rId3"/>
          <a:stretch/>
        </p:blipFill>
        <p:spPr>
          <a:xfrm>
            <a:off x="6705720" y="502920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1. DNA Overlo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cells have one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nucleu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at contains the DNA for the ce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DNA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is needed to instruct cell parts to make protein, enzymes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cell grows, it 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does not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e more D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creates an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ff0000"/>
                </a:solidFill>
                <a:latin typeface="Tw Cen MT"/>
              </a:rPr>
              <a:t>information crisis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a large cell without enough information to tell it what to 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2. Surface area-to-volume rat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larger a cell gets, the more difficult it is to move material across the cell membra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 materials use diffusion to mo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fore, metabolism only occurs as fast as materials can be supplied and elimina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usion is very fast over short dista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usion gets very slow over longer dista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2. Surface area-to-volume rat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cell increases in size, both its volume (inside the cell) and the surface area (outside the cell) grow, but not proportionat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cells grow, volume increases faster than surface areaTherefore,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cells stay sma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is a problem because the cell wants as much surface area as possible to absorb 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ff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2. Surface area-to-volume rat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3" descr="Life7e-Fig-04-03-0%20cell%20surface%20area%20to%20volume%20ratio"/>
          <p:cNvPicPr/>
          <p:nvPr/>
        </p:nvPicPr>
        <p:blipFill>
          <a:blip r:embed="rId1"/>
          <a:srcRect l="1097" t="3296" r="0" b="8791"/>
          <a:stretch/>
        </p:blipFill>
        <p:spPr>
          <a:xfrm>
            <a:off x="838080" y="18288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imes New Roman"/>
              </a:rPr>
              <a:t>How do cells stay smal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divide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3" name="Picture 4" descr="cell_division"/>
          <p:cNvPicPr/>
          <p:nvPr/>
        </p:nvPicPr>
        <p:blipFill>
          <a:blip r:embed="rId1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20:47:30Z</dcterms:created>
  <dc:creator>Zebulon Holsopple</dc:creator>
  <dc:description/>
  <cp:keywords/>
  <dc:language>en-US</dc:language>
  <cp:lastModifiedBy>Geneva Jost</cp:lastModifiedBy>
  <dcterms:modified xsi:type="dcterms:W3CDTF">2016-11-29T13:00:16Z</dcterms:modified>
  <cp:revision>188</cp:revision>
  <dc:subject>Biology Honors</dc:subject>
  <dc:title>1.2.2_Notes_ReasonsForCellDivision</dc:title>
</cp:coreProperties>
</file>